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06FA2-B020-4CFF-9E9F-5946A1E404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AAB5F-F451-468D-B515-72BD68BE25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50AD7-6A29-49FF-A24A-FD3D2F71C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1968C-6713-49B5-8F84-C111D0AA98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FBC2A-DD83-4C51-B8FA-CDD7FAED3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ED02A-497F-4A3B-A26C-3387D9B21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41AD6-4CB6-4F58-8DFA-DDA4F228FE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07289-331A-4D58-BEC1-0EDAFEC34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935-1CCF-4207-99CE-EEADC946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F1D-1021-48F3-AFFF-D53FC494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EB0-692F-4648-A3A3-3BD5264C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198-A5E9-49FA-B5D0-E997106A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FA7-0696-45D0-9EB5-C20D5E14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4F0-A175-455E-B08A-15EEE308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97E-318F-4F13-A8BF-CECAAEB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3BC-F468-4F0F-8CB6-5A22779C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87B-9D6B-4D88-9CAA-B2A3CEF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7BE-4457-44A6-A8A2-17610868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3B0-4505-4A40-BD02-F3325B3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0D0-7D15-4693-92BC-67C6671E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0345E-BB8F-48B5-B4F3-7E04CA3B84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79800" y="2103480"/>
            <a:ext cx="762696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ow Great Is 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splendor of the K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othed in majes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et all the earth rej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ll the earth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 wraps Himself in l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darkness tries to h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rembles at His v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rembles at His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ge to age He st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ime is in His h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Godhead, three in 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ather, Spirit, S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20640" y="1862280"/>
            <a:ext cx="87631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ame above all nam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rthy of all pra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y heart will 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1-06-08T04:58:00Z</dcterms:modified>
  <cp:revision>28</cp:revision>
  <dc:subject/>
  <dc:title>Slide 1</dc:title>
</cp:coreProperties>
</file>